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0286-5790-4191-8F31-B8862A9B3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1BB7-7BF5-4ABB-A5A0-706ABC17C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F1E2-A2A1-4B67-90F9-0A601ADE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3D0A-F691-40BD-A3F0-DCD0F279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3E8B-EAF8-45BB-946C-956F21719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4D88-D530-4E7E-9139-C0D1C470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E8CB-DFD2-42AD-A6AD-F876DDC6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DBC6-D9FB-49B1-8EB2-2211B0CE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823F-5DAF-4C7A-8B92-55F471AB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9328-8077-4762-9944-90AF9EE9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CBF7-CE35-4812-87A8-2F4880D8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C555-3255-4C86-B653-9D372FE2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6E68-A9A3-4F57-86BF-0EE8EED4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854D-AFE1-4001-B78B-CF7B7A6D6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95280" y="1228680"/>
            <a:ext cx="7848720" cy="562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rot="18156600">
            <a:off x="160920" y="447840"/>
            <a:ext cx="2954520" cy="3276720"/>
          </a:xfrm>
          <a:prstGeom prst="wedgeEllipseCallout">
            <a:avLst>
              <a:gd name="adj1" fmla="val -32296"/>
              <a:gd name="adj2" fmla="val 643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  should not eat 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cause we have lives 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have famil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ll came from g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 why you should not eat 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21:26:48Z</dcterms:created>
  <dc:creator>Student</dc:creator>
  <dc:description/>
  <dc:language>en-US</dc:language>
  <cp:lastModifiedBy>Student</cp:lastModifiedBy>
  <dcterms:modified xsi:type="dcterms:W3CDTF">2008-11-19T21:32:28Z</dcterms:modified>
  <cp:revision>2</cp:revision>
  <dc:subject/>
  <dc:title>Slide 1</dc:title>
</cp:coreProperties>
</file>